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409-C4C8-483E-98BF-ACE778D7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B3A-3EB7-4D4D-AAE9-789CB8AB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71A-602A-4806-93A2-F561D5EC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AFB-3CC1-4C6C-B723-640EACBB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7F1-4941-4F87-AA06-B0467165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F9F-B1C1-4AA6-90AA-88D8FD0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F98-FB5E-459D-90A0-B260F7C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A97-F786-45B0-B153-1F78DE49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4EB-1088-4743-A62D-FFC3CB50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F92-F3D4-4928-856A-743F2BF2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6F7-06DE-4662-A5F8-0C1F6168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D59-82C3-4846-968A-2C7A18D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EE36-8537-443E-AE1A-97AC91A8B3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Филиппов Н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560B-BC84-45C4-99B1-D1943EF08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6357960" y="650088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сновополагающий 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857680" y="22147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Болеет ли компьюте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857680" y="22147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к отбиться от зараз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857680" y="22147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Ознакомится с основными способами защиты от угро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857680" y="221472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Поиск информации о способах защиты от угро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ассмотреть основные по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Подвести ит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857680" y="2214720"/>
            <a:ext cx="5929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Остановимся на некоторых способах защиты от наиболее распространенных в настоящее время угроз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Физические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(препятствие). Физические способы защиты основаны на создании физических препятствий для злоумышленника, преграждающих ему путь к защищаемой информации (строгая пропускная система на территорию и в помещения с аппаратурой или 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носителями информации). Несмотря на богатый опыт по применению таких способов следует признать, что они эффективны только от "внешних« злоумышленников и не защищают информацию от тех лиц, которые облада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равом входа в поме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857680" y="2214720"/>
            <a:ext cx="5929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Законодательные.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К законодательным средствам защиты относятся законодательные акты, которыми регламентируются правила использования и обработки информации ограниченного доступа и устанавливаются меры ответственности за нарушения этих прави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857680" y="2214720"/>
            <a:ext cx="5929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Управление доступом.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Под управлением доступом понимается способ защиты информации регулированием использования всех ресурсов системы (технических, программных, элементов баз данных). В автоматизированных системах информационного обеспечения должны быть регламентированы порядок работы пользователей и персонала, право доступа к отдельным файлам в базах данных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857680" y="2214720"/>
            <a:ext cx="59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риптографическое закрытие.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В сетях ЭВМ наиболее эффективными являются криптографические способы защиты информации. Если физические способы защиты могут быть преодолены путем, например, дистанционного наблюдения, подключения к сети или подкупа персонала, законодательные не всегда сдерживают злоумышленника, а управление доступом не гарантирует от проникновения изощренных "хакеров", то криптографические методы, если они удовлетворяют соответствующим требованиям, характеризуются наибольшей степенью "прочности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6:15:57Z</dcterms:created>
  <dc:creator>Владелец</dc:creator>
  <dc:description/>
  <dc:language>en-US</dc:language>
  <cp:lastModifiedBy>Владелец</cp:lastModifiedBy>
  <dcterms:modified xsi:type="dcterms:W3CDTF">2010-05-30T10:16:10Z</dcterms:modified>
  <cp:revision>52</cp:revision>
  <dc:subject/>
  <dc:title>Слайд 1</dc:title>
</cp:coreProperties>
</file>